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3FF-4B88-4C30-8258-C66DCCC0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CCD-EC62-49A0-A08E-D8EA0214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8A2-B281-4DEE-82AA-B3E7AEBB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9EE-6434-4E0F-A0E2-D69989C3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BF52-7F40-4B20-B4AB-E0E2F854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A7BC-6B2B-4F69-95D4-5332B716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51C-5130-4D80-9AE6-FD2B6012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BAAA-C7BB-41F4-9574-B5A632A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27EA-146B-4512-8F6B-BAA0C6AF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4248-CEC5-4640-BF47-E2AF3AEB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4B8B-EE6D-4B31-BC21-C50B979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520-B0E6-423B-8A7C-510ED85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C01D-2782-4C29-8D0E-7441878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20FE-1E32-4484-B284-03DA023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3F31-BDF4-4D07-A1F7-056039B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BA58-3331-4172-82D1-8554BC56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B53D-D898-4AF6-862E-F63EBA8E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F63B-A672-4E86-8FF1-3541E49E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1CCF-65B6-40A8-9BA5-95C942CD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A6EB-8D6F-4659-8A04-004E5C61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C0E6-BEBC-4240-A73C-D38B0EEB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E89B-DE74-4196-B61F-6B7F2F19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D4F-E1DC-4838-AE51-EF12887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EB74-E35B-4058-A828-16DBC593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E771-F87B-4861-BBD7-01C0EC73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9C19-65A1-4126-A902-344EF47B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2B6B-E2B0-43BE-BA1D-C2BC46D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8FF6-66D0-4577-9265-92433821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1ED3-C4B5-4800-A089-46E1F980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996B-6F5F-4BA8-9D7A-9D2356BA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4CC5-3F17-417D-B7EC-F93F4145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0E63-7583-4329-B601-4022002E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E754-C2E5-4097-8819-F8A7A774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131-5965-4A18-8196-47B137BA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EE9D-C6AE-4CD0-92D0-EE6DFA67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07A5-ED4C-43D5-9E86-F8631A6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F872-A5D2-40F8-B318-9543B513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0A1A-012D-4103-9D23-08BAFED9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773E-6454-4ED2-AF50-6EF7B49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9AAD-11C2-4271-B7EC-D9FE8CA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B20A6-29EF-4EB0-9AD1-C72CA098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0C23-4ADF-4999-8F15-EC60AA0E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3432-A79E-4F99-9F60-57D63B48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EE7A-2EB2-4F5F-A828-C17C8759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16B-1B2E-4D65-974A-F5620487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B2F1-75D1-45C8-8D6D-10CC6F5B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0C540-4E12-4174-B676-B283EA10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9189-9696-49EC-B8FC-BD2ECFB5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60A6-3511-40F3-AD4E-1CB517F7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E53D-4A22-45C1-94D6-D57577F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A38D-6CC4-4D80-B3E4-D129FAB7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085F-D5FA-4021-B487-989E2FD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2E0F2-DDC0-4C6C-BE26-5609256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B120-8742-409D-8686-FD891611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47AE-2D39-4FDE-9B1C-370C8BD2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712-5D33-44DD-A777-CF88246C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3170-7E8B-487B-9F53-97422DF7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48DD4-2043-494B-A3AA-3F82E18E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95E90-0DED-4105-BDCA-A565CC9B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E193-8B63-49B3-896F-00336B55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49102-B3A2-43DB-93C5-0523519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ECBF-18B5-490B-997F-0B7F6FAE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12078-E0EC-4A4D-87AB-AE72E469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DA7A2-6DC0-4BCF-8957-60C4817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3BED1-1E3D-459F-86B6-D21ABDC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58FE-2F16-4B41-B4B0-7BF49B08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827-AAE1-46E3-B83F-698551D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8DFA9-3066-43FC-8F58-46C31668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FE9A7-E9E9-4826-89FB-B0C8BBC5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137D8-3168-47CC-BFEE-9EC48ED2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AB12-524D-4081-8DD2-15199A2B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2A32-7F33-45EA-BDEF-7383EEF6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D45A-B40C-402C-AAF3-055B27C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1DB3-7D1F-4E06-9B7C-E9A6DD1E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C9BC-E77E-4584-B360-76F6C92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88B3-4D8E-4F03-9B84-2B01B3C1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4A7E9-200F-42E8-9F2D-C63A15BC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2E0-0C99-4B84-9F3B-FC5388AA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E40BF-4B6A-4E3D-9F11-F5ECFFF3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D415-BC05-4AB6-AE55-10C8D55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E620A-7E5C-4F91-BA9C-39E995CB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60057-BA27-43C0-9BC0-225A27A4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77728-A7E4-427E-801C-8CBA0987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BFA-6610-4066-8DB1-D930188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CAE-99F5-4419-A990-EC103DFC7D2E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7987-9397-42BF-9859-9BD2ED194FDD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B8C7-E308-4DFA-8879-0DFDD9A62C31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2B6F-3D84-4141-BE17-2E0AAD886FE8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6069-9FC9-4404-B319-E2145F1BC348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D55-7330-497D-9373-CC80EF5DD246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374-B079-4DC7-BDE3-99178CABD81D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ranslate.googleusercontent.com/translate_c?hl=zh-TW&amp;sl=zh-CN&amp;u=http://www.shenmeshi.com/Computer/Computer_20080605140023.html&amp;prev=/search%3Fq%3D%25E7%2589%25A9%25E9%2580%25A3%25E7%25B6%25B2%26hl%3Dzh-TW%26rlz%3D1T4AMSA_zh-TWTW266TW269&amp;rurl=translate.google.com.tw&amp;usg=ALkJrhjuym5XUtfZ-gidttgbz5r0EFZB0Q" TargetMode="External"/><Relationship Id="rId2" Type="http://schemas.openxmlformats.org/officeDocument/2006/relationships/hyperlink" Target="http://translate.googleusercontent.com/translate_c?hl=zh-TW&amp;sl=zh-CN&amp;u=http://www.shenmeshi.com/Education/Education_20070111221628.html&amp;prev=/search%3Fq%3D%25E7%2589%25A9%25E9%2580%25A3%25E7%25B6%25B2%26hl%3Dzh-TW%26rlz%3D1T4AMSA_zh-TWTW266TW269&amp;rurl=translate.google.com.tw&amp;usg=ALkJrhiPWtwSS9CdX160mC20WOAqBRYh3Q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ranslate.googleusercontent.com/translate_c?hl=zh-TW&amp;sl=zh-CN&amp;u=http://www.shenmeshi.com/Science/Science_20070528212348.html&amp;prev=/search%3Fq%3D%25E7%2589%25A9%25E9%2580%25A3%25E7%25B6%25B2%26hl%3Dzh-TW%26rlz%3D1T4AMSA_zh-TWTW266TW269&amp;rurl=translate.google.com.tw&amp;usg=ALkJrhggp-3mp-H-TaR7AeWjqHL7lKAf7g" TargetMode="External"/><Relationship Id="rId2" Type="http://schemas.openxmlformats.org/officeDocument/2006/relationships/hyperlink" Target="http://translate.googleusercontent.com/translate_c?hl=zh-TW&amp;sl=zh-CN&amp;u=http://www.shenmeshi.com/Science/Index.html&amp;prev=/search%3Fq%3D%25E7%2589%25A9%25E9%2580%25A3%25E7%25B6%25B2%26hl%3Dzh-TW%26rlz%3D1T4AMSA_zh-TWTW266TW269&amp;rurl=translate.google.com.tw&amp;usg=ALkJrhiIptvC1qWePqCqjhwmGYIyGfzrag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Candara"/>
              </a:rPr>
              <a:t>物連網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Internet </a:t>
            </a:r>
            <a:r>
              <a:rPr b="0" lang="zh-TW" sz="6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of </a:t>
            </a:r>
            <a:r>
              <a:rPr b="0" lang="zh-TW" sz="6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Things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76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文化大學碩士學分班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課程：「教學設計與多媒體應用」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指導老師：鄒景平老師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學員：謝毓薇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68360" y="22046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目前資訊科技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ICT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已經越來越成熟，先前介紹過網路發展由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Web 1.0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，使用者只能接收訊息的單項傳輸方式轉變成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Web 2.0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時代，強調社群成員之間的互動分享，彼此協同合作的過程，因此社群網路式目前大家很關注的一項議題。簡單來說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物連網就是除了人與人之間的互動外，是否也能讓我們生活周遭的物件、真實的物體，也能連結到網路上，讓物品也能透過上網來進行互動與溝通的過程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何謂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物連網」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br>
              <a:rPr sz="4000"/>
            </a:b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「物連網」是甚麼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標題 1"/>
          <p:cNvSpPr/>
          <p:nvPr/>
        </p:nvSpPr>
        <p:spPr>
          <a:xfrm>
            <a:off x="250920" y="1366920"/>
            <a:ext cx="822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前言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也叫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傳感網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」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，它的概念是在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1999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年提出的，目前也沒有一個規範統一的定義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一般情況下理解成：把所有物品通過</a:t>
            </a:r>
            <a:r>
              <a:rPr b="0" lang="zh-TW" sz="3200" spc="-1" strike="noStrike" u="sng">
                <a:solidFill>
                  <a:srgbClr val="0080ff"/>
                </a:solidFill>
                <a:uFillTx/>
                <a:latin typeface="標楷體"/>
                <a:hlinkClick r:id="rId1"/>
              </a:rPr>
              <a:t>射頻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識別等信息傳感設備與互聯網連接起來，實現智能化識別和</a:t>
            </a:r>
            <a:r>
              <a:rPr b="0" lang="zh-TW" sz="3200" spc="-1" strike="noStrike" u="sng">
                <a:solidFill>
                  <a:srgbClr val="0080ff"/>
                </a:solidFill>
                <a:uFillTx/>
                <a:latin typeface="標楷體"/>
                <a:hlinkClick r:id="rId2"/>
              </a:rPr>
              <a:t>管理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 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物聯網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」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是一套讓真實世界中的任何物體隨時連結的網絡，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透過網際網路技術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讓各種實體物件、自動化裝置彼此溝通和交換資訊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何謂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  <a:ea typeface="新細明體"/>
              </a:rPr>
              <a:t>「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物連網」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br>
              <a:rPr sz="4000"/>
            </a:b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「物連網」是甚麼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標題 1"/>
          <p:cNvSpPr/>
          <p:nvPr/>
        </p:nvSpPr>
        <p:spPr>
          <a:xfrm>
            <a:off x="309600" y="1413000"/>
            <a:ext cx="822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2760" y="1916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因此物聯網是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在計算機互聯網的基礎上</a:t>
            </a:r>
            <a:r>
              <a:rPr b="0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利用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標楷體"/>
                <a:hlinkClick r:id="rId1"/>
              </a:rPr>
              <a:t>RFID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 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、無線數據通信等</a:t>
            </a:r>
            <a:r>
              <a:rPr b="0" lang="zh-TW" sz="3200" spc="-1" strike="noStrike" u="sng">
                <a:solidFill>
                  <a:srgbClr val="0080ff"/>
                </a:solidFill>
                <a:uFillTx/>
                <a:latin typeface="標楷體"/>
                <a:hlinkClick r:id="rId2"/>
              </a:rPr>
              <a:t>技術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 </a:t>
            </a: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構造一個覆蓋世界上萬事萬物的“</a:t>
            </a:r>
            <a:r>
              <a:rPr b="1" lang="en-US" sz="3200" spc="-1" strike="noStrike" u="sng">
                <a:solidFill>
                  <a:srgbClr val="073e87"/>
                </a:solidFill>
                <a:uFillTx/>
                <a:latin typeface="標楷體"/>
              </a:rPr>
              <a:t>Internet of Thing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何謂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物連網」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標題 1"/>
          <p:cNvSpPr/>
          <p:nvPr/>
        </p:nvSpPr>
        <p:spPr>
          <a:xfrm>
            <a:off x="303120" y="1268280"/>
            <a:ext cx="82296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圖片 1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656320"/>
          </a:xfrm>
          <a:prstGeom prst="rect">
            <a:avLst/>
          </a:prstGeom>
          <a:ln w="0">
            <a:noFill/>
          </a:ln>
        </p:spPr>
      </p:pic>
      <p:sp>
        <p:nvSpPr>
          <p:cNvPr id="347" name="標題 1"/>
          <p:cNvSpPr/>
          <p:nvPr/>
        </p:nvSpPr>
        <p:spPr>
          <a:xfrm>
            <a:off x="227160" y="233280"/>
            <a:ext cx="8229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6836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運用技術包括各種有線、無線通訊技術、感知、儲存、嵌入式系統等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如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自動識別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標楷體"/>
              </a:rPr>
              <a:t>(RFID)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技術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物連網的一種技術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物聯網涵蓋了幾類技術，包括支援的硬體、網絡軟體和通訊協定、以及一套各種電腦通用的物體描述語言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國際知名商業顧問公司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SRI</a:t>
            </a: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將物聯網相關技術歸納成</a:t>
            </a:r>
            <a:r>
              <a:rPr b="1" lang="en-US" sz="2400" spc="-1" strike="noStrike">
                <a:solidFill>
                  <a:srgbClr val="073e87"/>
                </a:solidFill>
                <a:latin typeface="標楷體"/>
              </a:rPr>
              <a:t>2</a:t>
            </a: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大類</a:t>
            </a:r>
            <a:r>
              <a:rPr b="1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第一類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是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打造物聯網元件的技術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，包括電子通訊介面和協定、微控制系統、無線通訊技術、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RFID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技術、能源補充技術、感測器、動作器、定位技術以及各種軟體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第二類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物聯網技術是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讓物件彼此溝通的協同技術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，包括地理資訊標籤、生物認證、機器人、機器視覺、擴增實境、親臨實境（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Telepresence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）、個人黑箱與生活記錄器、觸控介面、潔淨科技等技術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物連網」所需技術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物聯網的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終極目標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是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讓真實世界的任何物體可以隨時和其他物體溝通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，透過現有的網際網路技術串連起各種實體物件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讓他們彼此可以交換資訊，達到控制和通訊的目的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歐盟委員會（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European Commission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）的企業網路和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RFID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部門首席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Gerald Santucci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表示，物聯網是繼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WWW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網際網路、行動網際網路（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Mobile Internet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）之後的第三代網路架構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結論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事實上，在現實生活中已可見物聯網的具體應用，如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遠程防盜、高速公路不停車收費、智能圖書館、遠程電力抄表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等，只不過這些僅是物聯網的鄒形，還尚未形成一個龐大的網絡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物連網」的應用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73e87"/>
                </a:solidFill>
                <a:latin typeface="Candara"/>
              </a:rPr>
              <a:t>網路資料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1. http://translate.google.com.tw/translate?hl=zh-TW&amp;sl=zh-CN&amp;u=http://www.shenmeshi.com/Science/Science_20090918220753.html&amp;ei=lQe7TIC6BITuvQOg7Lj8DQ&amp;sa=X&amp;oi=translate&amp;ct=result&amp;resnum=3&amp;ved=0CCIQ7gEwAg&amp;prev=/search%3Fq%3D%25E7%2589%25A9%25E9%2580%25A3%25E7%25B6%25B2%26hl%3Dzh-TW%26rlz%3D1T4AMSA_zh-TWTW266TW269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2.http://www.dns.com.tw/?p=312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3. http://smallyow.blogspot.com/2010/08/internet-of-things.html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參考資料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54:32Z</dcterms:created>
  <dc:creator>user</dc:creator>
  <dc:description/>
  <dc:language>en-US</dc:language>
  <cp:lastModifiedBy>user</cp:lastModifiedBy>
  <dcterms:modified xsi:type="dcterms:W3CDTF">2010-10-17T18:23:18Z</dcterms:modified>
  <cp:revision>16</cp:revision>
  <dc:subject/>
  <dc:title>PowerPoint 簡報</dc:title>
</cp:coreProperties>
</file>